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4774-C144-42C6-8F16-8F65253EE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1860-79B4-4BF3-B7F9-C03214D68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4E0-77A7-4E8E-AE5B-A2138E8B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5AA-1B60-48CE-B996-FEB55059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A4F-FEF7-4A28-AA85-CE1480DC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D58-7755-4750-9951-EB8B89F1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EB3-775C-42E4-A1EB-182D0851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11E-1812-4505-B529-4E0F2AF4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FE9-AFBE-4906-8344-1375B75B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AC2-2AF0-4C9C-B3F3-1034E19D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8D7-4516-4A47-81B9-943381B8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A85-C8FA-4D84-A5D7-61034A9A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7D0-85A5-4A51-9B3A-C47666FE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D7F-F337-41BE-9224-4CFFC32C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17F5-D2AD-402E-9776-DF04134E6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ashmi Sar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2362320" y="8763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Rashmi. Yo vivo en Nueva York. Tengo quince años. Tengo dos hermanas. Muy bueno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ándo nos vemos ?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haciendo mi tarea de escuela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y bein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estas haciend 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 sábado a las 4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a te extraño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diós por ahora y yo te veré mañana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res tu amiga 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4:40:33Z</dcterms:created>
  <dc:creator>FriscoISD</dc:creator>
  <dc:description/>
  <dc:language>en-US</dc:language>
  <cp:lastModifiedBy>User</cp:lastModifiedBy>
  <dcterms:modified xsi:type="dcterms:W3CDTF">2012-12-07T14:52:25Z</dcterms:modified>
  <cp:revision>105</cp:revision>
  <dc:subject/>
  <dc:title>Profile</dc:title>
</cp:coreProperties>
</file>